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977-4CA8-4EBA-AC85-7B8AC4AF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2E9-CC05-4C63-9BE0-F0E3FD51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602-153E-4BCD-83A6-E40E54BC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77B-1777-4CD9-BD65-20970A3F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233-BC16-40A6-AC8A-6DE1EE52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C1E-25E8-49A9-A8D6-3FFA585E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607-8730-4BF3-B50A-849CDE5B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D21-8965-45E7-9626-34A68C72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F6C-4344-4F6E-801F-ED489A75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952-7AEC-42D9-99EF-550137DF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C3A-D1AD-456F-AC79-4205B1DD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C7F-838E-4DAF-A30D-E01CDD08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8B98-12D3-48E9-923C-CEAA54F39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2390760" cy="3133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48320" y="1752480"/>
            <a:ext cx="2209680" cy="1219320"/>
          </a:xfrm>
          <a:prstGeom prst="wedgeRoundRectCallout">
            <a:avLst>
              <a:gd name="adj1" fmla="val -42814"/>
              <a:gd name="adj2" fmla="val 5976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e, the new website is beautiful, but how does it 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24280" y="2743200"/>
            <a:ext cx="2210040" cy="1371600"/>
          </a:xfrm>
          <a:prstGeom prst="wedgeRoundRectCallout">
            <a:avLst>
              <a:gd name="adj1" fmla="val -40587"/>
              <a:gd name="adj2" fmla="val 5706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nt results are listed on the right- hand menu. Put your hoof on a date and cl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91520" y="5029200"/>
            <a:ext cx="428400" cy="38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438280" y="3581280"/>
            <a:ext cx="2390760" cy="3133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15200" y="4648320"/>
            <a:ext cx="1828800" cy="990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629400" y="2133720"/>
            <a:ext cx="2390760" cy="3133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4572000" y="762120"/>
            <a:ext cx="2286000" cy="1447560"/>
          </a:xfrm>
          <a:prstGeom prst="wedgeRoundRectCallout">
            <a:avLst>
              <a:gd name="adj1" fmla="val -43055"/>
              <a:gd name="adj2" fmla="val 859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ier results are on the left-hand menu. Click on Recent results, and then the 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2819520"/>
            <a:ext cx="428760" cy="380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2286000"/>
            <a:ext cx="2438280" cy="990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800600" y="3352680"/>
            <a:ext cx="42876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2390760" cy="3133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3733200" y="4952880"/>
            <a:ext cx="2514600" cy="1524240"/>
          </a:xfrm>
          <a:prstGeom prst="wedgeRoundRectCallout">
            <a:avLst>
              <a:gd name="adj1" fmla="val -76708"/>
              <a:gd name="adj2" fmla="val -408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played in the open game, choose your name on the list, and cli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H="1">
            <a:off x="3733200" y="4876920"/>
            <a:ext cx="2514600" cy="1447560"/>
          </a:xfrm>
          <a:prstGeom prst="wedgeRoundRectCallout">
            <a:avLst>
              <a:gd name="adj1" fmla="val -76708"/>
              <a:gd name="adj2" fmla="val -353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played in the 0-50 game, click on it, then choose your name. It’s as easy as moo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19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2390760" cy="313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705720" y="685800"/>
            <a:ext cx="428400" cy="380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8680" y="304920"/>
            <a:ext cx="1828800" cy="990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11320" y="0"/>
            <a:ext cx="7132680" cy="5572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280" y="3571920"/>
            <a:ext cx="2390760" cy="3133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47920" y="2438280"/>
            <a:ext cx="2209680" cy="1219320"/>
          </a:xfrm>
          <a:prstGeom prst="wedgeRoundRectCallout">
            <a:avLst>
              <a:gd name="adj1" fmla="val 1509"/>
              <a:gd name="adj2" fmla="val 11575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 are the scores for Mark &amp; Sharon for their game on September 1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11320" y="0"/>
            <a:ext cx="7132680" cy="5572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2280" y="3429000"/>
            <a:ext cx="2390760" cy="3133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47920" y="2438280"/>
            <a:ext cx="2209680" cy="1219320"/>
          </a:xfrm>
          <a:prstGeom prst="wedgeRoundRectCallout">
            <a:avLst>
              <a:gd name="adj1" fmla="val 861"/>
              <a:gd name="adj2" fmla="val 1350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he numbered buttons to see each individual h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380880"/>
            <a:ext cx="685800" cy="3812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5715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your results for each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4572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other’s results compared to y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48640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4267080"/>
            <a:ext cx="304560" cy="381240"/>
          </a:xfrm>
          <a:prstGeom prst="upArrow">
            <a:avLst>
              <a:gd name="adj1" fmla="val 50000"/>
              <a:gd name="adj2" fmla="val 31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838080"/>
            <a:ext cx="2286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153280" y="3581280"/>
            <a:ext cx="3812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3352680" y="4876920"/>
            <a:ext cx="2895840" cy="1447560"/>
          </a:xfrm>
          <a:prstGeom prst="wedgeRoundRectCallout">
            <a:avLst>
              <a:gd name="adj1" fmla="val -73194"/>
              <a:gd name="adj2" fmla="val -355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forget to check out the other links too! You could be here ‘til the cows come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2390760" cy="3133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1676520"/>
            <a:ext cx="2514600" cy="4495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533520"/>
            <a:ext cx="441972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27:29Z</dcterms:created>
  <dc:creator>Sharon Hoger</dc:creator>
  <dc:description/>
  <dc:language>en-US</dc:language>
  <cp:lastModifiedBy>Sharon Hoger</cp:lastModifiedBy>
  <dcterms:modified xsi:type="dcterms:W3CDTF">2010-09-16T13:53:21Z</dcterms:modified>
  <cp:revision>15</cp:revision>
  <dc:subject/>
  <dc:title>Slide 1</dc:title>
</cp:coreProperties>
</file>