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A6E-6C72-4950-9145-29F13C77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70C-570F-41A1-8A49-FDDEC735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30F-62C8-4576-8108-AC3BC2F0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5DF-7868-4856-A9C1-EFCFD3E7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EFAB-304D-414D-807E-2E6BECA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F5A-3E0A-4944-BAF8-ABF5EF63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10F-3456-463C-B832-DD0064E0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238-44FC-47B0-BED4-CB1104D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10A3-F86C-46D5-959C-DB93987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C92-E3CB-4DC5-8D4D-877A488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708B-7B13-4BCB-9192-9D19ABEB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7F0-EF5D-4F0B-8B15-EBA95E0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3DA3-7C18-4332-96B2-3E000DA9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8280" y="175248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48320" y="1752480"/>
            <a:ext cx="2209680" cy="1219320"/>
          </a:xfrm>
          <a:prstGeom prst="wedgeRoundRectCallout">
            <a:avLst>
              <a:gd name="adj1" fmla="val -42814"/>
              <a:gd name="adj2" fmla="val 59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e, the new website is beautiful, but how does it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24280" y="2743200"/>
            <a:ext cx="2210040" cy="1371600"/>
          </a:xfrm>
          <a:prstGeom prst="wedgeRoundRectCallout">
            <a:avLst>
              <a:gd name="adj1" fmla="val -40587"/>
              <a:gd name="adj2" fmla="val 5706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nt results are listed on the right- hand menu. Put your hoof on a date and cli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91520" y="5029200"/>
            <a:ext cx="428400" cy="38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438280" y="358128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15200" y="4648320"/>
            <a:ext cx="1828800" cy="99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629400" y="2133720"/>
            <a:ext cx="2390760" cy="313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572000" y="762120"/>
            <a:ext cx="2286000" cy="1447560"/>
          </a:xfrm>
          <a:prstGeom prst="wedgeRoundRectCallout">
            <a:avLst>
              <a:gd name="adj1" fmla="val -43055"/>
              <a:gd name="adj2" fmla="val 85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results are on the left-hand menu. Click on Recent results, and then the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2819520"/>
            <a:ext cx="42876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2286000"/>
            <a:ext cx="2438280" cy="990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800600" y="3352680"/>
            <a:ext cx="4287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3733200" y="4952880"/>
            <a:ext cx="2514600" cy="1524240"/>
          </a:xfrm>
          <a:prstGeom prst="wedgeRoundRectCallout">
            <a:avLst>
              <a:gd name="adj1" fmla="val -76708"/>
              <a:gd name="adj2" fmla="val -40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played in the open game, choose your name on the list, and cli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H="1">
            <a:off x="3733200" y="4876920"/>
            <a:ext cx="2514600" cy="1447560"/>
          </a:xfrm>
          <a:prstGeom prst="wedgeRoundRectCallout">
            <a:avLst>
              <a:gd name="adj1" fmla="val -76708"/>
              <a:gd name="adj2" fmla="val -353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played in the 0-50 game, click on it, then choose your name. It’s as easy as mo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9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705720" y="685800"/>
            <a:ext cx="428400" cy="380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8680" y="304920"/>
            <a:ext cx="1828800" cy="99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11320" y="0"/>
            <a:ext cx="7132680" cy="5572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2280" y="357192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47920" y="2438280"/>
            <a:ext cx="2209680" cy="1219320"/>
          </a:xfrm>
          <a:prstGeom prst="wedgeRoundRectCallout">
            <a:avLst>
              <a:gd name="adj1" fmla="val 1509"/>
              <a:gd name="adj2" fmla="val 11575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 are the scores for Mark &amp; Sharon for their game on September 1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11320" y="0"/>
            <a:ext cx="7132680" cy="557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28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47920" y="2438280"/>
            <a:ext cx="2209680" cy="1219320"/>
          </a:xfrm>
          <a:prstGeom prst="wedgeRoundRectCallout">
            <a:avLst>
              <a:gd name="adj1" fmla="val 861"/>
              <a:gd name="adj2" fmla="val 135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numbered buttons to see each individual h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380880"/>
            <a:ext cx="685800" cy="3812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5715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your results for each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other’s results compared to y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8640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267080"/>
            <a:ext cx="304560" cy="381240"/>
          </a:xfrm>
          <a:prstGeom prst="upArrow">
            <a:avLst>
              <a:gd name="adj1" fmla="val 50000"/>
              <a:gd name="adj2" fmla="val 31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2286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153280" y="3581280"/>
            <a:ext cx="3812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H="1">
            <a:off x="3352680" y="4876920"/>
            <a:ext cx="2895840" cy="1447560"/>
          </a:xfrm>
          <a:prstGeom prst="wedgeRoundRectCallout">
            <a:avLst>
              <a:gd name="adj1" fmla="val -73194"/>
              <a:gd name="adj2" fmla="val -355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forget to check out the other links too! You could be here ‘til the cows come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2390760" cy="3133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1676520"/>
            <a:ext cx="2514600" cy="4495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33520"/>
            <a:ext cx="441972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7:27:29Z</dcterms:created>
  <dc:creator>Sharon Hoger</dc:creator>
  <dc:description/>
  <dc:language>en-US</dc:language>
  <cp:lastModifiedBy>Sharon Hoger</cp:lastModifiedBy>
  <dcterms:modified xsi:type="dcterms:W3CDTF">2010-09-16T13:53:21Z</dcterms:modified>
  <cp:revision>15</cp:revision>
  <dc:subject/>
  <dc:title>Slide 1</dc:title>
</cp:coreProperties>
</file>